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86B-740C-4478-B78F-1EA31AC1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5D8-B3C8-467E-9B3A-AA00F4CC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416-129D-4643-A2FB-9D6FD125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1C4B-88D0-45D0-8507-01E5D72C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BE21-AC8B-4BAF-A820-B3E46C02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06FE-D1A9-4814-97E9-46FEC950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CE04-4BE7-4C2F-8ADA-FBF8EF89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E2C8-879E-48D1-A3B9-AC566B70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CBFA-EC07-4994-A617-6A25D5FA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9843-8C97-4026-B5FB-453B2AB0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0903-A041-4EBB-A9A5-04FF2C32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E01-0931-4A7C-AFD8-C7AC371E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8600-A5C4-453D-93B0-590F5AB3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408D-E846-4554-A664-9B9C8C43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4F7F-CFDF-4769-A026-9DEF97A0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9240-E67D-49A9-BC47-347573A2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D5E2-6306-4E01-9F42-8DDB0880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DC15D1-35FB-44FC-B387-F6A9D56B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B7B58-4C51-40E2-9CA8-FB48F4D4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16559-4AF5-4F01-A97E-FDD97DC0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BE434-B685-4862-8F65-E3A28A5A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AC4D0-1AFC-4240-9BD0-E6E119C1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CD5-035D-42A7-A2D3-537FDEAD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F660D-CF94-4C21-B998-E2BC5AC5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D3E7C3-85A4-4DC0-A156-90770BBF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D94C9-714E-4C7E-9C27-5C69A7D0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98D25-5CA4-47EC-BA4A-C4966001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2B8C8-DB31-4B68-9CDA-57EE407A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DFFA0-C381-45A1-9E35-DEDB9F4A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4DA2A-B695-41F4-99A8-4EF56470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2DE35-5B94-4BAA-8152-BAB5D820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70427-784F-44BD-99CB-D23B715F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FF853-FCB3-4127-8FCC-90188836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57B-14A7-4E40-BB50-5A8AFDB2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75CC9-D742-4C68-BFFB-9AE1D56F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53206-EE97-4606-BBCE-5DFF4519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B184F-6C48-47D7-B630-1C30EF56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C8158-2362-425B-AEF5-559677A8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E2CA2-3B17-41D4-A994-33C8B9A2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5E1B1-997C-4320-9FD1-D4526997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6D30E-5254-434C-BA3A-7BA7DEBE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D5D09-EA86-4A2B-BBCD-11F5ABDC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F1311-0417-4E01-8DC4-08D86F6D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A09181-99CC-4C1E-A369-D05E90A6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B967-682D-45E8-B8D4-A30BA677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3E975D-5B06-47B2-93E2-6E6BF59C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154AA3-733B-4BA2-8A41-6E7C0C53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909198-C4F8-4882-9C08-D96D1876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932CCA-D839-4265-9AFE-9F81FE03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F0CD20-6607-49F8-B719-9CEDC7D6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256936-5060-45BE-8C3C-64999B10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53A8F4-1CE1-4459-95E9-499A8959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71E776-24EC-40F8-8E78-60614FE8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73B01B-702B-4A11-B4AF-94E64C0E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68B525-A358-4436-A940-C822E8FE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B29-4717-4E61-9288-F8570758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8DBA56-9A6A-483C-9B61-06D9B205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E75324-9B05-4EA1-9030-7DBB10A2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1E2849-E3B0-4A6B-8EE9-1790B10E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575557-0E34-4950-B8E2-4DB49EEC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D41D09-288B-4EA7-B2D5-A9163B51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4DD9B2-4C94-4CB1-8302-603542A0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AF091C-76BF-48C1-9ACB-8974AAF9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067156-07F8-4852-928B-975F5ECC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31909B-7709-44C0-8CC6-A00370CC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9DB988-5734-4ABF-85E9-9152F0D0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1CC-67E1-42D5-80D0-2F07A889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E70B2D-3A4E-4103-BF8F-C5F2DC4F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5E696A-D2C6-471A-8355-6A9B6D32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977C31-C471-434E-A663-C4057B50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C8ABFE-62B3-445E-A0BE-355B230C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0471BE-3274-4F6B-85AE-DDFF1E6B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D61F88-988C-4C7C-BD73-540D7FDF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3F6A30-69E5-4F0A-B16B-4C157474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BD0C6B-C0FE-4380-8F99-53F8D64A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908826-3DDB-4970-A46B-0409FBF6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945118-8DB4-4653-A01D-A80FA125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FBE-DA29-4E34-BBF1-72583B49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A5177C-4F2D-4012-B7AA-CBFEF76F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FF4DBD-04CD-420B-B923-CCA1F5B9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D8E348-D2B1-439B-89C8-440CB101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140FC5-3227-4E4E-9D8A-6C3BE6DA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A916CD-1468-4C4A-B291-D9A79AA7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2242-C91F-49EB-A4B4-34B46EBC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6DF5-CD3A-4CF1-874F-2ECFC2E53E9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4E08-EB59-4E05-A77B-AD9496E425E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884F-7EA3-425D-BE4A-E77E2A5E94A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bde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aebde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1FE1-EB06-4AD2-B1B5-AF8F2448C68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5796-F4E4-4F17-847D-973906C5046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80DA-A7AD-46D1-BDB9-F4E6128AF1F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EA68-8AD6-4B31-9F39-22045886575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669ba075-e921-11dc-95ff-0800200c9a66/3_19.sw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31640" y="1988640"/>
            <a:ext cx="7126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5439"/>
                </a:solidFill>
                <a:latin typeface="Century Schoolbook"/>
              </a:rPr>
              <a:t>РАБОТА И МОЩНОСТЬ ЭЛЕКТРИЧЕСКОГО ТОКА</a:t>
            </a:r>
            <a:endParaRPr b="0" lang="en-US" sz="4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Ладан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МБОУ «Верх-Жилинская ООШ»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Косихинский район Алтайский кра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684360" y="1557360"/>
          <a:ext cx="7775280" cy="4392720"/>
        </p:xfrm>
        <a:graphic>
          <a:graphicData uri="http://schemas.openxmlformats.org/drawingml/2006/table">
            <a:tbl>
              <a:tblPr/>
              <a:tblGrid>
                <a:gridCol w="3887640"/>
                <a:gridCol w="3887640"/>
              </a:tblGrid>
              <a:tr h="439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а уроке я работал(а)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воей работой на уроке 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рок для меня показалс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За урок 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Мое настроение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Материал урока мне был</a:t>
                      </a:r>
                      <a:br>
                        <a:rPr sz="2400"/>
                      </a:b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Домашнее задание мне кажетс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 / пассивно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ен / не довол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им / длинным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стал / устал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 лучше / стало хуже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ен / не понят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езен / бесполез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ен / скуч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м / трудным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но / не интересн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Rectangle 1"/>
          <p:cNvSpPr/>
          <p:nvPr/>
        </p:nvSpPr>
        <p:spPr>
          <a:xfrm>
            <a:off x="539640" y="6404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исток рефлексии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3"/>
          <p:cNvSpPr/>
          <p:nvPr/>
        </p:nvSpPr>
        <p:spPr>
          <a:xfrm>
            <a:off x="1928880" y="135720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воей работой на уроке доволен, чувствовал себя комфортно, настроение после урока хороше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611280" y="1357200"/>
            <a:ext cx="1322280" cy="407052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5"/>
          <p:cNvSpPr/>
          <p:nvPr/>
        </p:nvSpPr>
        <p:spPr>
          <a:xfrm>
            <a:off x="2000160" y="245916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воей работой на уроке недоволен, чувствовал себя не совсем комфортно, настроение после урока плохо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Прямоугольник 6"/>
          <p:cNvSpPr/>
          <p:nvPr/>
        </p:nvSpPr>
        <p:spPr>
          <a:xfrm>
            <a:off x="2000160" y="3857760"/>
            <a:ext cx="678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стояние на уроке безразличное, урок никак не изменил моего эмоционального состояния и настроени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2000160" y="3600"/>
            <a:ext cx="65008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4000" spc="-1" strike="noStrike">
                <a:solidFill>
                  <a:srgbClr val="72a376"/>
                </a:solidFill>
                <a:latin typeface="Times New Roman"/>
                <a:ea typeface="Calibri"/>
              </a:rPr>
              <a:t>Нарисуй настроение</a:t>
            </a:r>
            <a:r>
              <a:rPr b="1" lang="en-US" sz="4000" spc="-1" strike="noStrike">
                <a:solidFill>
                  <a:srgbClr val="72a376"/>
                </a:solidFill>
                <a:latin typeface="Times New Roman"/>
                <a:ea typeface="Calibri"/>
              </a:rPr>
              <a:t>: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WordArt 2"/>
          <p:cNvSpPr txBox="1"/>
          <p:nvPr/>
        </p:nvSpPr>
        <p:spPr>
          <a:xfrm>
            <a:off x="917640" y="1844640"/>
            <a:ext cx="732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пасибо за урок!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76a55"/>
                </a:solidFill>
                <a:latin typeface="Century Schoolbook"/>
              </a:rPr>
              <a:t>ЛИТЕРАТУРА /ЭЛЕКТРОННЫЕ РЕСУРСЫ/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125000"/>
            <a:ext cx="814716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ка. 8 класс. - М.: Дрофа, 2009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омов С.В., Родина Н.А. Физика. 9 класс – М.: Просвещение, 2002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кашик В.И., Иванова Е.В. Сборник задач по физике 7-9 класс – М.: Просвещение, 2008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ботарева В.А. Тесты по физике. 8 класс – Издательство «Экзамен», 2009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chool47.coi.spb.ru›fizkultminutka.do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ladanova.ucoz.com/load/planirovanie/kursy_kruzhki_i_mnogoe_drugoe/uroki_fiziki_8_klass/24-1-0-5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a075-e921-11dc-95ff-0800200c9a66/3_19.swf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7963-e921-11dc-95ff-0800200c9a66/index_listing.htm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466560" y="1405080"/>
          <a:ext cx="8282160" cy="4119480"/>
        </p:xfrm>
        <a:graphic>
          <a:graphicData uri="http://schemas.openxmlformats.org/drawingml/2006/table">
            <a:tbl>
              <a:tblPr/>
              <a:tblGrid>
                <a:gridCol w="1657440"/>
                <a:gridCol w="695520"/>
                <a:gridCol w="696960"/>
                <a:gridCol w="331560"/>
                <a:gridCol w="363600"/>
                <a:gridCol w="696960"/>
                <a:gridCol w="695160"/>
                <a:gridCol w="695520"/>
                <a:gridCol w="696960"/>
                <a:gridCol w="347400"/>
                <a:gridCol w="347760"/>
                <a:gridCol w="552600"/>
                <a:gridCol w="504720"/>
              </a:tblGrid>
              <a:tr h="853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вопрос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</a:tr>
              <a:tr h="100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</a:tr>
              <a:tr h="170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Прямоугольник 3"/>
          <p:cNvSpPr/>
          <p:nvPr/>
        </p:nvSpPr>
        <p:spPr>
          <a:xfrm>
            <a:off x="2987640" y="2620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юч к тесту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2"/>
          <p:cNvSpPr/>
          <p:nvPr/>
        </p:nvSpPr>
        <p:spPr>
          <a:xfrm>
            <a:off x="642960" y="21420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Работа электрического тока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1785960" y="1000080"/>
                <a:ext cx="14288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6"/>
              <p:cNvSpPr txBox="1"/>
              <p:nvPr/>
            </p:nvSpPr>
            <p:spPr>
              <a:xfrm>
                <a:off x="3606840" y="1285920"/>
                <a:ext cx="774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7"/>
              <p:cNvSpPr txBox="1"/>
              <p:nvPr/>
            </p:nvSpPr>
            <p:spPr>
              <a:xfrm>
                <a:off x="4357800" y="1143000"/>
                <a:ext cx="22525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8"/>
              <p:cNvSpPr txBox="1"/>
              <p:nvPr/>
            </p:nvSpPr>
            <p:spPr>
              <a:xfrm>
                <a:off x="4714920" y="2357280"/>
                <a:ext cx="1557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Овал 12"/>
          <p:cNvSpPr/>
          <p:nvPr/>
        </p:nvSpPr>
        <p:spPr>
          <a:xfrm>
            <a:off x="5500800" y="2214720"/>
            <a:ext cx="928440" cy="928440"/>
          </a:xfrm>
          <a:prstGeom prst="ellipse">
            <a:avLst/>
          </a:prstGeom>
          <a:noFill/>
          <a:ln w="25560">
            <a:solidFill>
              <a:srgbClr val="76a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1" name="Прямая со стрелкой 14"/>
          <p:cNvCxnSpPr/>
          <p:nvPr/>
        </p:nvCxnSpPr>
        <p:spPr>
          <a:xfrm flipV="1">
            <a:off x="6142680" y="1999800"/>
            <a:ext cx="214920" cy="215280"/>
          </a:xfrm>
          <a:prstGeom prst="straightConnector1">
            <a:avLst/>
          </a:prstGeom>
          <a:ln w="22320">
            <a:solidFill>
              <a:srgbClr val="76a776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62" name="Object 12"/>
              <p:cNvSpPr txBox="1"/>
              <p:nvPr/>
            </p:nvSpPr>
            <p:spPr>
              <a:xfrm>
                <a:off x="3571920" y="3857760"/>
                <a:ext cx="371484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3"/>
              <p:cNvSpPr txBox="1"/>
              <p:nvPr/>
            </p:nvSpPr>
            <p:spPr>
              <a:xfrm>
                <a:off x="5072040" y="3071880"/>
                <a:ext cx="4986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Прямоугольник 22"/>
          <p:cNvSpPr/>
          <p:nvPr/>
        </p:nvSpPr>
        <p:spPr>
          <a:xfrm>
            <a:off x="3500280" y="3714840"/>
            <a:ext cx="4071960" cy="1285920"/>
          </a:xfrm>
          <a:prstGeom prst="rect">
            <a:avLst/>
          </a:prstGeom>
          <a:noFill/>
          <a:ln w="633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Овал 25"/>
          <p:cNvSpPr/>
          <p:nvPr/>
        </p:nvSpPr>
        <p:spPr>
          <a:xfrm>
            <a:off x="6143760" y="1285920"/>
            <a:ext cx="714240" cy="714240"/>
          </a:xfrm>
          <a:prstGeom prst="ellipse">
            <a:avLst/>
          </a:prstGeom>
          <a:noFill/>
          <a:ln w="25560">
            <a:solidFill>
              <a:srgbClr val="76a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Box 29"/>
          <p:cNvSpPr/>
          <p:nvPr/>
        </p:nvSpPr>
        <p:spPr>
          <a:xfrm>
            <a:off x="1371960" y="5143680"/>
            <a:ext cx="603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измерения работы в СИ: Джоуль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5"/>
              <p:cNvSpPr txBox="1"/>
              <p:nvPr/>
            </p:nvSpPr>
            <p:spPr>
              <a:xfrm>
                <a:off x="4533840" y="339084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18"/>
              <p:cNvSpPr txBox="1"/>
              <p:nvPr/>
            </p:nvSpPr>
            <p:spPr>
              <a:xfrm>
                <a:off x="2714760" y="5715000"/>
                <a:ext cx="3795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Дж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В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А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rcRect l="11899" t="0" r="14827" b="0"/>
          <a:stretch/>
        </p:blipFill>
        <p:spPr>
          <a:xfrm>
            <a:off x="1023840" y="782640"/>
            <a:ext cx="6305760" cy="581508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2"/>
          <p:cNvSpPr/>
          <p:nvPr/>
        </p:nvSpPr>
        <p:spPr>
          <a:xfrm>
            <a:off x="142920" y="14292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Счетчик электрической энергии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2"/>
          <p:cNvSpPr/>
          <p:nvPr/>
        </p:nvSpPr>
        <p:spPr>
          <a:xfrm>
            <a:off x="642960" y="21420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Мощность электрического тока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3645000" y="676440"/>
                <a:ext cx="146664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2"/>
              <p:cNvSpPr txBox="1"/>
              <p:nvPr/>
            </p:nvSpPr>
            <p:spPr>
              <a:xfrm>
                <a:off x="3132000" y="1844640"/>
                <a:ext cx="27860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Rectangle 8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3276720" y="4005360"/>
            <a:ext cx="29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Р =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6" name="Group 17"/>
          <p:cNvGrpSpPr/>
          <p:nvPr/>
        </p:nvGrpSpPr>
        <p:grpSpPr>
          <a:xfrm>
            <a:off x="2701800" y="2646360"/>
            <a:ext cx="3454560" cy="1432800"/>
            <a:chOff x="2701800" y="2646360"/>
            <a:chExt cx="3454560" cy="1432800"/>
          </a:xfrm>
        </p:grpSpPr>
        <p:sp>
          <p:nvSpPr>
            <p:cNvPr id="377" name="Text Box 9"/>
            <p:cNvSpPr/>
            <p:nvPr/>
          </p:nvSpPr>
          <p:spPr>
            <a:xfrm>
              <a:off x="4284720" y="2646360"/>
              <a:ext cx="187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Text Box 13"/>
            <p:cNvSpPr/>
            <p:nvPr/>
          </p:nvSpPr>
          <p:spPr>
            <a:xfrm>
              <a:off x="2701800" y="2955960"/>
              <a:ext cx="116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5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r>
                <a:rPr b="1" i="1" lang="ru-RU" sz="5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Line 14"/>
            <p:cNvSpPr/>
            <p:nvPr/>
          </p:nvSpPr>
          <p:spPr>
            <a:xfrm>
              <a:off x="3995640" y="3438360"/>
              <a:ext cx="20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Text Box 15"/>
            <p:cNvSpPr/>
            <p:nvPr/>
          </p:nvSpPr>
          <p:spPr>
            <a:xfrm>
              <a:off x="4770360" y="3162240"/>
              <a:ext cx="371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1" name="Прямоугольник 22"/>
          <p:cNvSpPr/>
          <p:nvPr/>
        </p:nvSpPr>
        <p:spPr>
          <a:xfrm>
            <a:off x="3132000" y="3930480"/>
            <a:ext cx="2737080" cy="1082880"/>
          </a:xfrm>
          <a:prstGeom prst="rect">
            <a:avLst/>
          </a:prstGeom>
          <a:noFill/>
          <a:ln w="633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Line 20"/>
          <p:cNvSpPr/>
          <p:nvPr/>
        </p:nvSpPr>
        <p:spPr>
          <a:xfrm flipV="1">
            <a:off x="4716360" y="3573360"/>
            <a:ext cx="432000" cy="287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21"/>
          <p:cNvSpPr/>
          <p:nvPr/>
        </p:nvSpPr>
        <p:spPr>
          <a:xfrm flipV="1">
            <a:off x="5292720" y="3069720"/>
            <a:ext cx="431640" cy="287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Box 29"/>
          <p:cNvSpPr/>
          <p:nvPr/>
        </p:nvSpPr>
        <p:spPr>
          <a:xfrm>
            <a:off x="1430640" y="5084640"/>
            <a:ext cx="60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измерения мощности в СИ: Ватт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3506760" y="551664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т = 1 В•1 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3373560" y="607212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Вт = 1000 В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571680" y="184320"/>
            <a:ext cx="79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боры для измерения мощност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8" name="Picture 3" descr="2840"/>
          <p:cNvPicPr/>
          <p:nvPr/>
        </p:nvPicPr>
        <p:blipFill>
          <a:blip r:embed="rId1"/>
          <a:stretch/>
        </p:blipFill>
        <p:spPr>
          <a:xfrm>
            <a:off x="250920" y="119700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image1601"/>
          <p:cNvPicPr/>
          <p:nvPr/>
        </p:nvPicPr>
        <p:blipFill>
          <a:blip r:embed="rId2"/>
          <a:stretch/>
        </p:blipFill>
        <p:spPr>
          <a:xfrm>
            <a:off x="539640" y="4149720"/>
            <a:ext cx="2289240" cy="2376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6143760" y="5280120"/>
            <a:ext cx="2160360" cy="15778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5651640" y="1628640"/>
            <a:ext cx="2879640" cy="403236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7"/>
          <p:cNvSpPr/>
          <p:nvPr/>
        </p:nvSpPr>
        <p:spPr>
          <a:xfrm>
            <a:off x="5651640" y="1052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ваттметр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2868120" y="223056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льтмет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2828160" y="494172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мпермет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6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150840" y="189000"/>
            <a:ext cx="85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диницы работы, применяемые на практик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3143160" y="1428840"/>
                <a:ext cx="22320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Р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Text Box 4"/>
          <p:cNvSpPr/>
          <p:nvPr/>
        </p:nvSpPr>
        <p:spPr>
          <a:xfrm>
            <a:off x="2615760" y="2286000"/>
            <a:ext cx="357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 Дж = 1 Вт∙с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857160" y="35002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Вт•ч = 3600Дж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кВт•ч = 1000 Вт•ч = 3 600 000 Дж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2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96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25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25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5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a55"/>
                </a:solidFill>
                <a:latin typeface="Times New Roman"/>
                <a:ea typeface="Calibri"/>
              </a:rPr>
              <a:t>ПЕРВИЧНАЯ ПРОВЕРКА ПОНИМАНИЯ ИЗУЧЕННОГО. </a:t>
            </a:r>
            <a:endParaRPr b="0" lang="en-US" sz="32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2205000"/>
            <a:ext cx="80024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Что представляет собой работа электрического ток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 помощью, каких приборов можно измерить электрическую работу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Что представляет собой электрическая мощность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С помощью, каких приборов можно измерить мощность тока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222120" y="1536120"/>
            <a:ext cx="83584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50,51,52.Упр. 24 (2), 25 (2), задание 7, стр. 123.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диной Коллекции ЦОР: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ый материал: </a:t>
            </a:r>
            <a:r>
              <a:rPr b="1" lang="en-US" sz="2000" spc="-1" strike="noStrike" u="sng">
                <a:solidFill>
                  <a:srgbClr val="db5353"/>
                </a:solidFill>
                <a:uFillTx/>
                <a:latin typeface="Times New Roman"/>
                <a:ea typeface="Calibri"/>
                <a:hlinkClick r:id="rId1"/>
              </a:rPr>
              <a:t>http://files.school-collection.edu.ru/dlrstore/669ba075-e921-11dc-95ff-0800200c9a66/3_19.swf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7963-e921-11dc-95ff-0800200c9a66/index_listing.htm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2018520" y="28188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 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2:47:29Z</dcterms:created>
  <dc:creator>Ладанова И.В.</dc:creator>
  <dc:description/>
  <dc:language>en-US</dc:language>
  <cp:lastModifiedBy/>
  <dcterms:modified xsi:type="dcterms:W3CDTF">2013-08-04T03:12:44Z</dcterms:modified>
  <cp:revision>94</cp:revision>
  <dc:subject/>
  <dc:title/>
</cp:coreProperties>
</file>